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57B2-8526-4CFD-A50B-2A1C4D126FE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B2F2-48D5-461A-8452-5C8F1FF4984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1EB7-DB87-4FB2-A763-443DCF64232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57FB-4D7C-46D0-838F-CC4E16CC954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055F-D2FD-478B-BDEF-CC3D580D217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" spc="-1" strike="noStrike">
                <a:solidFill>
                  <a:srgbClr val="000000"/>
                </a:solidFill>
                <a:latin typeface="Calibri"/>
              </a:rPr>
              <a:t>http://www.science.smith.edu/departments/Biology/Bio231/glycolysis.html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0CF2-1AE4-4694-A321-50E17721640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FB5-98F3-4908-99B9-7DC1505B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61D-85C2-46F4-B9F4-514E8586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CEC-BB34-4BB5-8D09-12C400A3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C2E-807B-4FA2-A65F-1F38DAFF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0D4-CF9F-490A-823C-BC45AED4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F1E-CA3A-4374-A6DC-628F1AAC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6FB-371C-4FB4-9910-CA795276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189-F0C2-402E-AE61-2210EF1A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774-014D-44C5-A4B4-FFD5A7F7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085-0365-40E1-825E-B7162F62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A2B-DC3F-482D-9302-AA2F307E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EAB-08B8-4797-A3E4-0AFF0C0C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54A4-1B8E-42DB-B563-838B8CBEB491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pay-off (#6-1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For ea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3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, one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 is reduced to NADH and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3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hosphorylate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,3-biphosphoglyce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,3-B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osphorylates ADP to ATP through substrate-level phosphorylation, resulting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-phosphoglycerate (3P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somerize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Text Placeholder 2" descr=""/>
          <p:cNvPicPr/>
          <p:nvPr/>
        </p:nvPicPr>
        <p:blipFill>
          <a:blip r:embed="rId1"/>
          <a:stretch/>
        </p:blipFill>
        <p:spPr>
          <a:xfrm>
            <a:off x="1717560" y="4572000"/>
            <a:ext cx="5707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pay-off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#6-1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P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osphoenolpyruvate (PE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removal of a water molec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osphorylates ADP to ATP through substrate-level phosphorylation, resulting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Text Placeholder 2" descr=""/>
          <p:cNvPicPr/>
          <p:nvPr/>
        </p:nvPicPr>
        <p:blipFill>
          <a:blip r:embed="rId1"/>
          <a:stretch/>
        </p:blipFill>
        <p:spPr>
          <a:xfrm>
            <a:off x="1717560" y="4594320"/>
            <a:ext cx="5707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3605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ycolysis 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 of Glycolysis (simplified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http://www.science.smith.edu/departments/Biology/Bio231/glycolysis.ht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highered.mcgraw-hill.com/sites/0072507470/student_view0/chapter25/animation__how_glycolysis_work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lycolysis Overall Reac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lucose + 2 NAD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+ 2 ADP + 2 P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 pyruvate + 2 NADH + 2 H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+ 2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>
            <a:off x="3114360" y="3198960"/>
            <a:ext cx="2143800" cy="2160"/>
          </a:xfrm>
          <a:prstGeom prst="straightConnector1">
            <a:avLst/>
          </a:prstGeom>
          <a:ln cap="sq" w="63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nergy Yield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lycolysis produces 4 molecules of ATP per molecule of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 molecules of ATP are used to activate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overall net yield of </a:t>
            </a: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2 ATP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 per glucos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ucose + 2 NA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2 ADP + 2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---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pyruvate + 2 NADH + 2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2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nergy Yield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lycolysis produces 2 molecules of NADH per molecule of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ADH is used in a later stage of aerobic cellular respiration to generate ATP through oxidative 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yourself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this quiz:  http://www.zerobio.com/biofax12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rther explor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ant more detail, this animation shows the enzymes involved in glycolysis as well as chemical structure of the  intermedia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programs.northlandcollege.edu/biology/Biology1111/animations/glycolysi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almost all living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in the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aerob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it does not require any 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stage of aerobic cellular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enzyme-catalyzed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-carbon glucose is split into two 3-carbon pyruvate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 energy gain of 2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NA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reduced to NAD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975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335772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Glycolysis Overview</a:t>
            </a:r>
            <a:br>
              <a:rPr sz="4400"/>
            </a:br>
            <a:br>
              <a:rPr sz="900"/>
            </a:br>
            <a:br>
              <a:rPr sz="9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home.jam.rr.com/cjohnson1/glycolysis2.jpg"/>
          <p:cNvPicPr/>
          <p:nvPr/>
        </p:nvPicPr>
        <p:blipFill>
          <a:blip r:embed="rId1"/>
          <a:stretch/>
        </p:blipFill>
        <p:spPr>
          <a:xfrm>
            <a:off x="40719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Phases of 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ergy investment ph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eactions #1-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 (reactions #4-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ergy pay-off ph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actions #6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Investment (#1-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ucose undergo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hosphorylation (glucose --&gt; glucose 6-phosph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somerization to fructose (G6P --&gt; fructose 6-phosph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cond phosphorylation (F6P --&gt; fructose 1,6-biphosph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ATP are used to power these re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ext Placeholder 2" descr=""/>
          <p:cNvPicPr/>
          <p:nvPr/>
        </p:nvPicPr>
        <p:blipFill>
          <a:blip r:embed="rId1"/>
          <a:stretch/>
        </p:blipFill>
        <p:spPr>
          <a:xfrm>
            <a:off x="1689120" y="3938760"/>
            <a:ext cx="5764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(#4-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6-carbon molecule is split into two 3-carbon molecules:  glyceraldehyde 3-phosphate (G3P) and dihydroxyacetone phosphate (DHAP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HAP immediately isomerizes into G3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ducts of the cleavage are two G3P molec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Text Placeholder 2" descr=""/>
          <p:cNvPicPr/>
          <p:nvPr/>
        </p:nvPicPr>
        <p:blipFill>
          <a:blip r:embed="rId1"/>
          <a:stretch/>
        </p:blipFill>
        <p:spPr>
          <a:xfrm>
            <a:off x="1689120" y="3938760"/>
            <a:ext cx="5764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(#4-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HAP isomerization (to G3P) catalyzed by enzyme triosephosphate iso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ext Placeholder 2" descr=""/>
          <p:cNvPicPr/>
          <p:nvPr/>
        </p:nvPicPr>
        <p:blipFill>
          <a:blip r:embed="rId1"/>
          <a:stretch/>
        </p:blipFill>
        <p:spPr>
          <a:xfrm>
            <a:off x="4648320" y="2690640"/>
            <a:ext cx="40384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23:28:04Z</dcterms:created>
  <dc:creator>jen</dc:creator>
  <dc:description/>
  <dc:language>en-US</dc:language>
  <cp:lastModifiedBy>rubina khan</cp:lastModifiedBy>
  <dcterms:modified xsi:type="dcterms:W3CDTF">2012-10-18T13:54:43Z</dcterms:modified>
  <cp:revision>125</cp:revision>
  <dc:subject/>
  <dc:title>Slide 1</dc:title>
</cp:coreProperties>
</file>